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47241-3122-4B90-AB50-CB83C348C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00509-91E9-4EFB-A6DF-87E804552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2360C-A871-4A38-B38E-024FF3BE4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828F4-0C50-4C99-9662-01293232A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11A70-90D1-444F-AF9A-7D9DF60A6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35B0A-8893-43E5-B759-897274F4E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1733C-EE0D-4D78-88E5-461EEC637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5725D-58C9-42EC-A2D2-439F143AA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189E3-2A01-4C51-9F45-BF7F1681E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6CD93-9EC4-4903-B588-362D1A041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04B5D-89F5-44D3-AF69-E5A79D2C4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A5C42-ACB9-4DAB-BCCF-CA67A795F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3B5E0-47AE-4299-9344-ED6D7368287B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Arial"/>
              </a:rPr>
              <a:t>ΕΚΠΑΙΔΕΥΤΙΚΟ ΛΟΓΙΣΜΙΚ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32000" y="1915920"/>
            <a:ext cx="6400800" cy="12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Arial"/>
              </a:rPr>
              <a:t>Πρώτη γνωριμία με διαθέσιμο εκπαιδευτικό λογισμικ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76360" y="3573360"/>
            <a:ext cx="64008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… </a:t>
            </a:r>
            <a:r>
              <a:rPr b="1" lang="el-GR" sz="4400" spc="-1" strike="noStrike">
                <a:solidFill>
                  <a:srgbClr val="333399"/>
                </a:solidFill>
                <a:latin typeface="Arial"/>
              </a:rPr>
              <a:t>Διαπιστώσεις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 ραγδαία εξέλιξη της Τεχνολογίας επιδρά στην κοινωνική πραγματικότητα , άρα και στην Εκπαίδευ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Στοιχειοθετείται η ανάγκη  επαναπροσδιορισμού του παραδοσιακού μοντέλου διδασκαλίας με τη δημιουργική αξιοποίηση των δυνατοτήτων των Νέων Τεχνολογιώ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740720" cy="15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Σύμφωνα με διεθνείς έρευνες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0920" y="6165720"/>
            <a:ext cx="85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ηγ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ational Council for Educational Technology (NCE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1816200"/>
            <a:ext cx="8434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9900"/>
                </a:solidFill>
                <a:latin typeface="Arial"/>
              </a:rPr>
              <a:t>Η χρήση των Νέων Τεχνολογιών στην εκπαίδευση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Παρέχει στο μαθητή πρόσβαση σε πλούσιες πηγές πληροφοριών και εκπαιδευτικού υλικού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Διεγείρει το ενδιαφέρον του μαθητ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Ενισχύει την αυτοπεποίθηση του μαθητή στη διαδικασία μάθηση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Κινητοποιεί τους αδύνατους μαθητέ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101080" y="630864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050560" y="188640"/>
            <a:ext cx="676908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Οι έρευνες όμως δείχνουν επίσης ότι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Οι Νέες Τεχνολογίες συμβάλλουν πραγματικά στη μάθηση μόνο όταν χρησιμοποιούνται μέσα απ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κατάλληλα σχεδιασμένες δραστηριότητε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και με σαφώ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καθορισμένους στόχου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6237360"/>
            <a:ext cx="7920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ηγ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ational Council for Educational Technology (NCE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ΒΑΣΙΚΕΣ ΔΕΞΙΟΤΗΤΕ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5013000"/>
            <a:ext cx="403848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Και τώρα τι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11280" y="1916280"/>
            <a:ext cx="21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627280" y="270828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427640" y="321300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C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56360" y="3500280"/>
            <a:ext cx="27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476360" y="4076640"/>
            <a:ext cx="388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721080"/>
            <a:ext cx="8064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17200" y="345960"/>
            <a:ext cx="785988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Είδη Εκπαιδευτικού Λογισμικο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71280" y="1196640"/>
            <a:ext cx="7894440" cy="49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Μεταξύ άλλων 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εκγύμνα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Σύνολο δοκιμασιών για εξάσκηση και αξιολόγηση του μαθητ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παρουσία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Παρουσίαση της διδακτέας ύλης με χρήση πολυμέσω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προσομοίω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Δημιουργί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αναπαράστασης ή μοντέλου ενός πραγματικού φαινομένου στην οθόν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επίλυσης προβλήματο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Επίλυση προβλήματος με δυνατότητα παραμετροποίησής του και αναπαράστασης της λύση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Εφαρμογή εικονικής πραγματικότητ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Εκπαιδευτικά παιχνίδι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christak</cp:lastModifiedBy>
  <dcterms:modified xsi:type="dcterms:W3CDTF">2003-09-15T12:54:00Z</dcterms:modified>
  <cp:revision>75</cp:revision>
  <dc:subject/>
  <dc:title>Τίτλος ενότητας</dc:title>
</cp:coreProperties>
</file>