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C1B89-1277-42AD-90E8-C67E15977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575D5-C6F5-4E3C-B3E7-B0B56B9DB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C15B9-3DF2-43AE-AB54-EBEFC517A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A80C5-098F-46FD-AEDD-DEC94B5A2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A31AB-5047-4475-B4C2-138B03839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934A5-5F85-4970-BA8F-D9D0DDB1E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CC576-F66B-4F72-8EFB-DFF4B3F00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AB541-5170-4A8E-BA61-0889BE05E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3F516-B81D-499F-B205-80E8EB3CF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8188B-5063-4452-8B0F-2B054E9B5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FF7C9-976D-41BD-8E10-F2442A704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687AD-E1A6-4A39-9604-A4AD4981F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90297-E99A-408B-8973-44740B32AA14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1700280"/>
            <a:ext cx="691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Εισαγωγικές έννοιες πληροφορικής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χρήση Η/Υ και γραφικά περιβάλλοντα επικοινωνία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Δεδομένα και Πληροφορίε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33520" y="2924280"/>
            <a:ext cx="8076960" cy="1009080"/>
            <a:chOff x="533520" y="2924280"/>
            <a:chExt cx="8076960" cy="1009080"/>
          </a:xfrm>
        </p:grpSpPr>
        <p:sp>
          <p:nvSpPr>
            <p:cNvPr id="44" name=""/>
            <p:cNvSpPr/>
            <p:nvPr/>
          </p:nvSpPr>
          <p:spPr>
            <a:xfrm>
              <a:off x="533520" y="2924280"/>
              <a:ext cx="1904760" cy="99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ΔΕΔΟΜΕΝ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ΙΣ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42900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πεξεργασί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Arial"/>
                </a:rPr>
                <a:t>ΠΛΗΡΟΦΟΡΙΕΣ</a:t>
              </a:r>
              <a:r>
                <a:rPr b="1" lang="el-G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l-GR" sz="2000" spc="-1" strike="noStrike">
                  <a:solidFill>
                    <a:srgbClr val="ffffff"/>
                  </a:solidFill>
                  <a:latin typeface="Arial"/>
                </a:rPr>
                <a:t>ΕΞ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1460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3868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9T17:13:45Z</dcterms:created>
  <dc:creator>..</dc:creator>
  <dc:description/>
  <dc:language>en-US</dc:language>
  <cp:lastModifiedBy>Winuser</cp:lastModifiedBy>
  <dcterms:modified xsi:type="dcterms:W3CDTF">2005-01-18T17:23:24Z</dcterms:modified>
  <cp:revision>13</cp:revision>
  <dc:subject/>
  <dc:title>Εισαγωγικές έννοιες πληροφορικής, χρήση Η/Υ και γραφικά περιβάλλοντα επικοινωνίας</dc:title>
</cp:coreProperties>
</file>