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5031A-C5C3-4F1B-9E6C-496F8D51F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5D467-852C-4CC8-84D3-6F39EB575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79F69-D627-4700-979C-5639B167E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00DA0-AF7D-4411-A8B0-F50A54408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3A082-F4E8-4594-9A13-4D57A2BA7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27211-E1E7-4EE0-A1FF-04038DEC8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400CB-F35E-4B92-A658-2243D8CBD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2813D-8340-4091-8F78-BB33F9085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34CCD-D703-4C5F-AC44-C4BF2F6F4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AAC9B-FF3F-47EB-8BE7-F7303F747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FEEC6-9B8B-4882-8E15-9BA9927C1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106E8-C755-4101-BD9F-D667FA9BC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14220-420C-4F68-B304-A5ACD89826D2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53:53Z</dcterms:modified>
  <cp:revision>3</cp:revision>
  <dc:subject/>
  <dc:title>Slide 1</dc:title>
</cp:coreProperties>
</file>