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CC64-4BF3-431B-A6EF-B9E57BCF7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9BF3-3633-44E8-9221-150C99431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B719-0E58-4C3A-96ED-2125080E1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3B40-2365-4924-826F-9BCE40BAB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4913-A9C3-4291-8BD8-03012CC43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062D-BD3E-42D6-8911-0FEA8B25A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F0FA-EC6C-4179-89B9-838A3EDE1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C65B-A6A4-4B04-9050-0A3C23AE9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6C32-98DF-4BD3-8118-BAB62F39A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0A1A-C99F-4D1E-95BB-4BBF07D64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A8D1-0135-4CE6-8A14-9BC601092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75CE-9A41-41E4-923A-CB9A17661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650A2-5340-4FB8-A369-9CEE5DF5CEEC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411280" y="306864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ΕΚΠΑΙΔΕΥΤΙΚΟ ΛΟΓΙΣΜΙΚ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173D-0CF0-4AC7-B7D3-E19C89E4AE2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22Z</dcterms:modified>
  <cp:revision>4</cp:revision>
  <dc:subject/>
  <dc:title>Slide 1</dc:title>
</cp:coreProperties>
</file>