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F211-4C87-44FF-80D3-EEC9638E1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14F5-7D1D-497C-A805-C62D4B48B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D72A-1A14-4FD1-917A-CBBBCC0F4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953E-B521-40F2-96BF-38CE6E5A1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3C07-7E7C-45E4-B304-852D6B450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9528-97B7-4F3B-8046-FC6C41E8A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FB93-2B4D-43B4-BD99-65CD39610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34CB-FF23-4129-AC19-DC90D97E7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C431-0B3D-4917-90E7-F8C949184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B1E4-A699-4AC3-8508-1C41A4916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3B3D-42AA-402F-8E44-B06D0CAB1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800E-C433-48E8-85A7-53718CC90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8C922-8823-425F-88A0-EA9C2D06C197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411280" y="306864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ΕΚΠΑΙΔΕΥΤΙΚΟ ΛΟΓΙΣΜΙΚ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7631-56E6-4E76-98AA-1D8DEBD26BF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22Z</dcterms:modified>
  <cp:revision>4</cp:revision>
  <dc:subject/>
  <dc:title>Slide 1</dc:title>
</cp:coreProperties>
</file>