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D36DA-F466-4452-8CC8-FD1D5D596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BBB2D-514A-4349-B225-A422821A1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123A4-975D-4FB6-952B-61970A6D0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A605D-245B-490F-BDFA-B36CE00E2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1E5CE-9FE7-419E-900C-3A135C998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1ACB4-D0AF-4D19-816B-34A4D0C9F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F2B03-7598-469C-A197-EC882D8AD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1D9D4-8539-48C1-A1AC-A612A13D9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4A3F7-7D1F-402A-9281-9F2C3AF38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BD50B-E890-4980-95EF-89C685FB8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51B42-5999-4DAF-8ECA-9CC8EF0F6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46863-FCCB-4C65-94EC-37A7F44D2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4920"/>
            <a:ext cx="3248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E3000-CB87-48C0-846F-A1385C4208BE}" type="slidenum">
              <a:rPr b="1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40000" cy="2279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Διαφάνει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A3C7F-036E-41C9-BC7A-4544AFFCE0D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13:05:45Z</dcterms:created>
  <dc:creator>christak</dc:creator>
  <dc:description/>
  <dc:language>en-US</dc:language>
  <cp:lastModifiedBy>1</cp:lastModifiedBy>
  <dcterms:modified xsi:type="dcterms:W3CDTF">2005-01-13T13:41:08Z</dcterms:modified>
  <cp:revision>3</cp:revision>
  <dc:subject/>
  <dc:title>Slide 1</dc:title>
</cp:coreProperties>
</file>