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9A658-CAA1-4F1C-8B54-2F980FFC5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33C24-6C26-4428-AEA8-3555FA2A2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15237-BB82-4E3E-B12D-222F7D1C9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0A282-EEC2-493B-A0B1-B24662435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F1936-CA4D-4A91-ABE2-D619BF8FA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5FB7B-8748-49C1-B1DD-285AA5F1D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CF6EE-3FC9-497F-810E-183253BF7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542EA-F23F-471D-9392-E4C944785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64968-4B97-4499-8953-2DD6E5FAB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87B70-7F80-4D61-B8B1-99D5E9FED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A1C07-E35C-428F-BBAF-0B8A99F83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CD680-C244-4F77-A0BC-2A33C9B86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1F8DD-632B-4124-91B9-171F0497EB49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12:17Z</dcterms:modified>
  <cp:revision>2</cp:revision>
  <dc:subject/>
  <dc:title>Slide 1</dc:title>
</cp:coreProperties>
</file>