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BDA89-D7C7-4F97-89EB-C0978D9B7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F2600-3011-4A42-B16D-B7E771452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399AC-037F-49E9-9B5E-907C0E678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D164E-3FAC-493E-8AC6-C37167E41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26DA8-28D0-43AD-8E6D-73750B30E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3FDD0-3904-4F91-BB0C-699DA4D96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B5998-4BD3-4C79-B3E3-58FE6E2B5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45ACF-F2BB-496E-B84F-E7B7D6B02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E112C-7720-4A26-93D8-B370900CF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F65C2-483D-497A-BFE2-04B9774A0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60311-EF4E-490A-AA93-80123D034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E0E4E-A93E-42F7-87AB-09AB4D09F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5686C-BF56-422F-A2BE-EEA140D4FCEB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12:17Z</dcterms:modified>
  <cp:revision>2</cp:revision>
  <dc:subject/>
  <dc:title>Slide 1</dc:title>
</cp:coreProperties>
</file>