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6078-799D-404F-8954-E3AEC78E8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3C2E-6344-4992-AF57-9427971B0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F0F2-D569-4D6B-9749-1D8C1B9D8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B66F-82AF-4385-977F-228E3F1B9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D877-AE27-4C53-8DAD-3400E87DA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8BCD-7B91-486C-8D64-DDF181702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3A5B-FBA0-4D43-B911-0ECD0E506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28D1-9DFA-46C4-9C69-DD89879DB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2733-C002-419F-9F88-62A3EFE52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2044-BEBF-4DB9-BEF8-BE7E72ECE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AE62-29E1-434D-9323-32F9A3A96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4B94-BDCD-4E31-801E-C37FA1C28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AC84A-1059-4E9B-8105-618CFA3B34AF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39Z</dcterms:modified>
  <cp:revision>3</cp:revision>
  <dc:subject/>
  <dc:title>Slide 1</dc:title>
</cp:coreProperties>
</file>