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A3CB3-D8FB-48B7-AD9A-DC7E439FF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1DC9B-318A-4E1A-91A7-BAD9C174E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6254F-8BF0-41D9-9E3A-651C68EB4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36E52-DE5D-4A87-98AD-30EFA8815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107C3-FFCA-4B9E-9B8C-0BA43B9E1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12DDD-980A-43D3-B73A-17D52142E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735C9-92C9-4194-96B1-FCF4C4ADA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48D01-5075-4976-B86C-0A912272A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DDA07-8D68-446C-8A46-DFC40BD92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CBD2A-A6E1-49DC-9150-1F1C78B5B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06CE2-4B80-4262-AEC7-90B715876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0CD5E-1F17-4FAA-AA43-BEE12805A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8D0D6-BEEC-4AD2-BE0F-DD811AECF5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995640" y="404640"/>
            <a:ext cx="482436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009960" y="4876920"/>
          <a:ext cx="3124080" cy="166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09960" y="4876920"/>
                    <a:ext cx="3124080" cy="16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39640" y="119592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1</cp:lastModifiedBy>
  <dcterms:modified xsi:type="dcterms:W3CDTF">2005-01-13T14:06:40Z</dcterms:modified>
  <cp:revision>80</cp:revision>
  <dc:subject/>
  <dc:title>Τίτλος ενότητας</dc:title>
</cp:coreProperties>
</file>